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9F6-2B64-4D35-A027-D801FD3D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6BD-98AB-4FCB-8AFE-590912E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3CE-F538-4A12-B0AD-2CD559BE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7F3-8F75-41FD-B135-65E2F9CB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676-F194-4FEF-8107-1ECFD5A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757-4B19-47C0-8E9F-5183AAD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08D-936D-4D00-8626-8210EA40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95D-EBB8-4A90-8131-B03D3D8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350-AF95-4470-813B-996D3DC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19C-1317-451F-8141-8CA413D6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11D-F1B5-4F31-88B4-BA8B2A53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F44-BB33-448A-AB51-BB7A0DF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D18-11B7-4977-8BC9-064A45249146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ETAto PortOfCall, ETDfrom PortOfCall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Arrival3Days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Arrival24hours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BvoyagetowardsPortOfCall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ATA</a:t>
                      </a: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, 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6-08T17:42:31Z</dcterms:modified>
  <cp:revision>360</cp:revision>
  <dc:subject/>
  <dc:title>Slide 1</dc:title>
</cp:coreProperties>
</file>